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E6A-8518-4C69-8986-70890226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75A-9494-4CBF-8237-94A5BABF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3734-4794-4493-BD6E-4B23A986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B469-D196-4832-B602-800383C9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B6D5-C166-4592-BF8E-A2EF3837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7241-49D3-4568-89B4-F5A10C47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3E6B-BBB7-45F7-A452-55264FC3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A853-4C15-4CB9-9B8E-1607BD58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73C-2C0D-4A0A-B3AA-0C7DCB78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8FE3-C96F-47F3-9A26-6411F942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630-D438-4546-9A9E-900C6021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7004-E44A-4DF0-9881-E3169E72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1511-7FA5-496F-A99D-9B4A8AC00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cal Friends 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7617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sent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8 m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ers (P) explain, audience (A) liste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arific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 m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asks clarifying questions, P respond (I’m not sure what you meant by….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valu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 m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uses Project Design Rubric (p69-70), P wa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Like…”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 m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shares what they liked, P lis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Wonder…”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 m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shares concerns, P lis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flec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 m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 reflect on useful feedback, A liste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Have…”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 m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shares ideas for project, P may respo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20:12:19Z</dcterms:created>
  <dc:creator>MNPS User</dc:creator>
  <dc:description/>
  <dc:language>en-US</dc:language>
  <cp:lastModifiedBy>ctrumbo</cp:lastModifiedBy>
  <dcterms:modified xsi:type="dcterms:W3CDTF">2011-07-28T13:19:58Z</dcterms:modified>
  <cp:revision>3</cp:revision>
  <dc:subject/>
  <dc:title>Slide 1</dc:title>
</cp:coreProperties>
</file>